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DE94-EA22-410A-8441-56C358B7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CEDA-86B4-463D-A4BF-D9A22646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3D031-C266-4522-A088-B63A6847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70E8F-057F-4C8C-BD00-A77137D8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98B22-678D-422F-8764-D888D23B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091EF-174B-401D-8252-8DCD989A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408A2-C5F3-483B-B7B9-DEA10E96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4D151-FE07-43A6-BB19-068B2BC7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9737C-F337-46BB-8EB9-4A7A5EE1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47768-060F-46FD-AE67-D0119F4F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5EDB1-0ACF-4B6D-AFD2-3AEE84F0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E1730-FDC9-4ABF-9969-8C0A93E7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FFC-852F-4A6F-9072-C335AA77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1E69D-20B4-4461-9A48-A9359E87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2E751-B3B1-4CA7-BF0B-C9731670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87F79-FE32-4437-8561-7ADA9BBE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DD855-EF61-450C-BE81-C0B20F19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47B22-402B-438E-A310-C6D8ABB9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3564B-DE61-4E64-A91E-168AE3B7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38A01-5DA4-438A-964F-0CE7BA19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F7C93-F673-4E1B-B539-12C10C7E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0C977-3B1A-4AE4-BE5F-4E0BB83A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9218D-A7AE-4B7C-A3FC-78500035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D59C-A871-49FA-8AD1-9002C254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93844-9C99-4781-9409-D46F7B06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E29E9-2C29-406F-BBCA-17E66AEA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F0ED3-4412-4A12-B295-69917436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81C6E-16C8-4B44-890F-3DE5EF41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2114F-77E4-40AF-AA3D-12D6D6DE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65E39-51BA-4452-A3BA-75778C17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54FC4-71D8-421E-B0AE-3FF3A322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A649C-7C10-4F4E-BBEC-189E8324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CF219-91B2-4ACC-8DE5-571077A1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7DF9B-D51C-4A32-8EA6-D72655BF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9E07-4087-43C2-9032-B1F53F23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E5C4A-5D05-4C31-800D-AE185FCF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549B0-7F5E-4222-AFAC-B4C55E6D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9C6F5-BCCE-4D5E-B930-EF11A048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80D57-3966-4DD8-90BA-9BE2A2CC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C2300-8A4E-4A4F-9E0E-BE10FAAA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272AA-1789-4B4B-A785-FFBFDC51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61AA9-6CD7-4486-8EEB-602175DD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27EC0-6A27-419E-8230-868A3A01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EC166-7372-443D-8796-1B9F007B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EB37B-057A-49B4-8D3C-3FE4542A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667A-66CC-475A-BE24-66E2D929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B03FB-B755-4630-8CEA-030986F4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5C6C8-79EE-41F3-B22C-5090E6A4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5DEDD-CEF0-4D92-87F9-82662A25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27ABB-7E26-4B65-A9B8-061BCE44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90841-C58D-4D5A-9AA5-B29BB10E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6CE7AA-8661-4CC4-9D72-45C36363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1D8D78-C180-4FF7-AC6D-96D20A27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7AD726-A357-443D-A215-D9AC465E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3F9890-615F-47FF-A844-DC2C5DB6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642355-805B-4978-878A-3EFE3BBB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CFAF-C773-4329-8F2F-F9BEEF0D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F80814-4E9D-413A-AC6B-D84A215B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4454E3-012D-450C-9F18-91AD52BF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106ED3-7C56-46B1-AF25-F3E8FF9E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7F5A9E-4AD7-46BD-96B2-B8F287A6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7F5FFD-3D7F-4C57-A106-DC40E983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2010F7-14FB-4282-986A-02BDAA80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D77AD1-E99B-47F3-9793-C2CF18FC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E9D1A8-41AD-4146-8EDA-6E6F4A78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508096-5752-4077-A975-6C428423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210C1F-0BCF-40E4-8716-5E3E422C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C702-8C48-4978-94A8-31B11099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65F26F-5AFA-4BE1-B9FC-2896BAC3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C3019F-C649-4320-8BF8-19D8E874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F057FF-ECE5-424A-8BCB-D12A8145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0E0462-5B74-4D42-8C9A-BA2C7D2C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84136A-283F-4CB7-BF1C-7F1B9E4A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F6A885-C0C1-42C4-9CF2-95017E08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71F1DE-5E3C-4F2B-85C5-4E832378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9EE637-551D-4684-9474-D36FB942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D09E1F-4ABC-45A3-8E71-A57399DE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930410-9C7B-4A5D-8DE0-DEBDD138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D0C5-5540-4F48-8E29-01D374BD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09AA6F-6C4B-474D-B59E-3764A141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0C1530-6A57-464F-AF1F-C0B043FC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6DAD77-6362-44B5-AE4C-F3ED208B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E4462A-6B8D-49F5-ABBD-50989057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FAF3AE-4153-44A0-911C-138F5953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72FE6C-868C-4960-90E8-46003887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B47232-0533-4C23-BA46-6734DC8A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289F69-A6D4-4F9A-9354-4292C34F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570A1E-0BC2-4D52-9126-652C66CA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B772F9-18BB-4BE2-AF07-83BDF908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0F69-91C8-4C86-BA39-DB1A6126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973AB6-A7D7-4A5C-B4C1-1703BEC2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5A20DC-19FD-4035-8950-9E6FD03A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00BA62-3A1F-467B-82E8-4441DDC1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38095E-8922-435C-9996-71CE6EBB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432616-41F2-4791-B238-5E24D741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6FB9CE-3B82-44CD-A1B9-ACA5B042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4F0C33-70BF-4C08-8975-2A6F9A92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200B7F-4A65-4048-B093-A0CFCD72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8AFA15-AB2B-45F2-B40C-7F8F8662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444279-2096-4349-A562-1D1FB38C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CBB0-2F66-46C8-8CC1-E48EFAF8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1896CB-1890-4EA2-87CE-B2909DE4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71B486-759A-4BA2-A341-56783F88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D779C0-6053-4349-9E0D-AE722866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B47320-FD78-4211-B28A-D0CF27F0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3F75DC-AF71-4EA9-868F-DB96A898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CEF873-99E9-49C6-9C3B-1746B3D2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EE49AF-1EA9-46D4-925D-E6514901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43C6D5-911B-413E-BB2F-BF539F78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F40CD2-1F91-4B3A-BF2E-075D3E5C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DDDBA1-B3AB-42F5-BF27-D0E270E2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6370-0468-4472-B6F4-95DFEB3A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6A2A-70CA-4357-891F-080FD138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F9FBBD-B1C7-496E-87A8-C748AADB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E3F65F-4956-4020-AEF9-1AC673C7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125CFE-DC42-478C-98FE-D719C9B3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DCE43D-3FB4-48BB-B967-2BFCE61A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885EE1-7F2F-40A3-81DF-4F62932C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D882C5-5924-465F-A669-95703078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4B15BE-6A1B-4B84-8312-289C6820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1CC618-DD6F-44F0-AC6B-069965AC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8BA02E-AC69-45C0-ACC8-0BCB1DCE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60C85D-9906-475F-B2CB-3BE5DCD2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68F2-871F-44A6-98CE-2C5FCAC6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066A98-5CB3-4367-A386-43126B2F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49C451-D056-4F5C-89AD-7D54A5DC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332091-1492-47B3-91E4-E25A7C38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08FC85-B694-41FC-B516-E28495FA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0E11A7-4C43-415B-89BC-3B0677F5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71BBA7-002D-457B-AFE0-27DAD768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41776E-82A7-4464-B2E9-0FFD5A3B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FB4836-FBAF-4D9C-B961-D0E94B36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839DA7-A9A1-4442-B888-BD7AAB2F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05F16A-88D0-48BE-B434-7312C018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87D7-1F61-4E61-A504-3319DDE7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B692C7-5828-45C0-A6C8-2837F415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C1944E-A39F-4106-9982-AB18AA38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388DBB-B453-4BA1-B663-41202506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D1CDF4-0F84-4616-9E89-CDCF233D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0AE4A6-A8CB-4C4C-BAA0-400CBC10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D7E70A-02C8-46A6-8DFC-535EF297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B732A3-C754-4833-B546-816C58B6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407831-E128-4F2B-B1DD-251D0242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ABFF20-310D-4C40-B398-2B8C3A98F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619C9C-77F9-4363-BE1A-CAF8FD84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1633-B9F5-49FE-A3D4-8E404ED6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3DD01B-350F-4957-9CC6-86DA31AE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DB6B28-E61E-4E22-8037-1380CE8F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358D39-D548-42F8-B792-60CBAF42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BFDBC3-83D2-40B0-AEB6-8A31FBAC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FF0DC4-F5C7-4BD6-9D1F-C5DD621A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B42C4E-6C8B-4245-953B-784977A6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6B3CF6-A2F3-4C99-8832-05E2D1A6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12E835-1E54-49E6-87F9-EACFB3C9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35E3FF-4571-4CB9-BCC4-223D99B3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31A0C2-416C-4063-A77D-A5BE97A2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5366-31CA-4905-BAE2-AA556B0C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B07039-E716-4BD5-B4E9-245135DEF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9723EC-3CAD-4E7F-961E-9FD34AF5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25201D-4EB2-4436-ADCF-DA523DB5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16B8DB-FA70-4E96-8914-AF885679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494BFC-BF2E-470B-AD91-7BAF0C52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A3E8A4-5C8D-42C2-AAED-662576A9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893AA3-AB67-4619-B8AA-330DE5E5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834AF8-9EDA-457F-B216-2D6B4C12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37CADD-7DDB-42BF-B3B9-E3677676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65A883-85B9-437D-B68D-C6655630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9D3B9-23B9-48B8-9086-6D9313EF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C099CC-9E0C-4185-B151-0F09D07E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F751BD-3A20-46C3-A2BC-D1383ABB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20C9FB-8296-4BFF-B4C8-1C2AE1DB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17F94D-59DD-4839-9768-796D8838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1B8F74-042B-4663-8082-7F627A2C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6FB1D4-B776-434D-9CA2-26D2439D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7D6B68-188D-44A6-9779-FBE6441D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AE4658-D472-46B3-BE94-C0569F5C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6A0BAE-36D2-447D-84C1-3D6C8618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DF6D58-6B4E-4B62-B080-A26AF65E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2344E-CBD5-4414-B84E-79E56FE5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3CB81D-839B-4CA4-B47E-D93F66DA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635055-5889-4E43-856D-892C4215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3349D3-97CE-424C-AA29-4909F2C2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DA63DE-6227-4A75-BEEF-1BAE5BEE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1983B0-2227-4BD5-B514-0CEF1F53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D03AA4-AB2D-48E1-ADFF-1C716856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FD784D-82B0-440A-9C0C-83F2A0B7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B4E532-1E8B-4714-8A77-B3CA1130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47D8DB-9D17-457C-A842-8FAF58BB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08699D-7501-44A1-8849-3954BDD7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22DE1-BFEC-4991-9D1D-5613970A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B89175-66AE-43AC-8F43-F6BB2B27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99D95C-B7BA-4B8C-BDF6-54932026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7DE51C-7CA1-4E58-9DE0-7CB28ACA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9E338C-6952-4E4F-B9F7-DE560C7C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B59072-61AC-4EC3-81EF-315C845D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155C4E-E95E-4CF9-8BF1-98BC493E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753A88-BC4B-4938-9BB6-F2DD4A5A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B4489-E65E-4C72-8462-8D42830A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C57DB-1A57-4B5A-8DC7-9B5466A8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E09-DE95-4161-8FBC-7BFCB635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6E6EF-AD9B-4CF5-A3FD-B4C08BB2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B0E71-5290-4DC2-8EC9-86FCAE3A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08625-2A41-48CB-A8B8-91A9A4B2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30BC6-EA83-43FB-90F9-4902BFD1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8CCC6-F4E9-41B3-BD27-CFD723C1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31FC9-AC96-489C-AECB-BD79EAF1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B8A34-CB6C-458B-A555-64ED224E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2E714-F7CA-4267-8721-D6B11460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6B212-9EF5-4064-82CC-E057F9F9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0AE06-C14A-48B3-878F-88D1DA07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63E0-13C1-464F-A2FC-29413069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0328C-D550-49B6-B0E5-4771D785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46123-D383-4E5D-B13E-15B5D68E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B7364-5207-4B9A-90B3-3B4673D5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6A8E8-F900-48DE-B6ED-1BA43351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F8DAD-131F-496B-8F68-C0E90D90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E5EC8-1C6C-441A-B2C3-BC3636B3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73277-A0AC-4802-AAF1-17A51458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2AB89-9FDC-4C54-B35C-46F0B813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20499-6971-4AAC-AC01-BB167F00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465C9-748D-4DDE-B948-591C691D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8527-9435-437B-B7C0-4F470989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86B4A-38D7-4974-A1A1-D415D6AA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2A9B1-8AEF-4661-BDC6-D8B02514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0934B-90CC-47D4-B66E-8A2A955B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81D85-0E5D-4531-8F10-22BBA1F6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7A2BB-96DD-4F27-BB23-21B99FF3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34A5C-BC80-4DE8-9667-DDACADD5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8D3C1-80AF-4D4D-BE9B-7992841D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9F5F9-617C-4257-AF53-A3E490C7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0F6F8-F130-4F7C-A879-ABE347C5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8D5F0-D9AA-450E-AE14-85F20320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A5F9-E00D-4734-958B-8851E1D7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87ED8-D9CA-4001-80B9-168D1D2B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FC941-9079-4C19-A534-5A0A7C3C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7C526-8182-4735-B405-6666894A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C52C3-3BEF-4A71-9F98-EB89DC51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BA0EB-B6B4-4FE8-8471-B1514C04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A4EC4-FCCA-46F2-81B7-58E4A9EF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315D3-EF7E-4570-927D-1A8E3676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7D052-DB37-4C8E-84A5-DC197961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524CA-DC17-4AF9-B207-545DB135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7074E-D33E-4ACE-8588-398819EE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7729-16E4-410B-9FA0-13F605BE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56874-D83C-46A5-B31A-244E58C0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AF689-5DC9-4698-8B6E-8A841A1B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E4D94-54A0-4BB6-BCB9-07AD5C51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1DFB0-D207-4007-88F9-759A0BD6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098AD-94B4-4AD5-8A82-3418C7C8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D34DD-CD63-4A40-A040-A1DF7C8D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162C7-AFAF-4B2D-8937-FD954150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2E411-A98C-4A21-96E5-B1FBCF4B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61D31-7466-4059-9D60-673C95ED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DD400-D25C-4016-B397-26003903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3E63-B517-4504-BECE-021BD685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691EB-575A-42C3-9673-31960B9D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1051C-0653-4999-B026-71C73B40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ECA5F-687C-4322-AEBE-DEABD96A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7B42F-56ED-445D-97D0-19375295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46DC6-7BD1-4AC4-9813-8A2A75FB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B0D3B-5A1C-4883-9F68-B1C242A9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A3C68-FCA8-44B4-A3FE-B693C1F4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13F8A-66D6-4B40-BA84-F31692C1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A80C7-DD39-4F49-8430-F2DDAB61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4CD35-D1F5-46E9-A9E4-A9182DDA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B36-C971-487B-AC4E-E38C18DD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CC972-F415-43A8-8E11-DBDF829B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70791-60A4-48B7-8BB4-86781264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68487-D5AA-4EC6-8A8C-4C1F4DEC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7936D-A523-4A45-A010-192BD561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D7772-B115-4DE4-B49E-9F1EE8E6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C4C2C-6083-42C5-B739-20EE2F6D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AAA13-613C-453A-974A-EF7B2C30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E8630-2900-4347-8D7F-9BAD3213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30B5F-2DB5-47F6-96BF-CF9A8490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60ED3-6E9F-412B-9224-5BE888FF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1766-389D-4DDB-B720-8F565637C3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BDED-3E78-4E74-9E14-A03850AA4B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1A59-85E6-4E59-A499-3BCAE161A0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42DB-B01D-437E-90E1-E4104BC4B0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D166-6FAB-4E5D-9B52-4BF7F9240D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2098-1D0A-4E3D-B1FF-8926E2E87A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804D-BCB4-4420-83D1-B9245684C4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9BC2-675F-4A86-ACFA-8B863B7EAD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55ED-C31E-49FC-9754-8EBFC5547C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0151-7989-43B7-B8AC-3434766921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9607-8C6D-4CE5-9728-9F432C2F7B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CD0D-6353-4B52-BC97-D80007A401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3D4A-58A6-4977-ABDF-053751C4DD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9147-FD77-4016-B0C0-3CAFC050F3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5228-3B35-4BAE-9E1F-C96E1C3EE6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2CDD-6AC3-4DB0-AADF-3196DE7862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0C28-432B-4C16-B150-3BDB64C058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8DBE-388B-40E7-9696-0CBFAFB650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6642-BA19-4A39-915C-5930C34FC7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FA52-749F-4252-BDBE-B6D4D3DFB7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E895-0C00-48D2-987C-22EF5ED695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37B0-0A81-46CE-88FB-0746C604B9C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30EF-D707-4615-9944-5ACEAE6A47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D3B2-B7D2-4E7F-88DE-3AF32B0266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3E2F-55EC-47FD-A886-1FC4102239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BD02-8384-437F-B509-49CFADAE55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128F-9F9B-47CA-9358-FE4BEDD3FB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61F8-0FB2-4082-A314-43D866C7F6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469E-F0F1-4158-A28C-C58EE5B8AD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BB6B-BF41-435C-8EB6-44D8EC48B3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FFF5-5D31-44F5-A758-7CCE08BD29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BBA9-4B49-4187-9B7D-DF94B22516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2DEA-7C9B-41FE-9F2C-185ADE9E0A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1950-F4AB-4F71-B445-6A7A70E2DD6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8461-4306-4AC4-AE56-523B10045A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A55F-603B-4FF2-ADC7-7BC1EB41E6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5615-90EB-463C-8690-7897A7096E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F98A-BE11-442A-A909-F7B1386CC8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775D-5D43-4C12-802E-3ECB5CC2EE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791C-48D6-4D21-BEC2-06085E35D7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092E-B764-471D-A249-31BA49D59E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5693-07A6-4566-90E7-DF8363BD8F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919160" y="3014640"/>
            <a:ext cx="53056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168120" y="866880"/>
            <a:ext cx="8352000" cy="115236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2" descr=""/>
          <p:cNvPicPr/>
          <p:nvPr/>
        </p:nvPicPr>
        <p:blipFill>
          <a:blip r:embed="rId2"/>
          <a:stretch/>
        </p:blipFill>
        <p:spPr>
          <a:xfrm>
            <a:off x="168120" y="2230560"/>
            <a:ext cx="7351920" cy="117144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3" descr=""/>
          <p:cNvPicPr/>
          <p:nvPr/>
        </p:nvPicPr>
        <p:blipFill>
          <a:blip r:embed="rId3"/>
          <a:stretch/>
        </p:blipFill>
        <p:spPr>
          <a:xfrm>
            <a:off x="168120" y="3457440"/>
            <a:ext cx="8066160" cy="1533600"/>
          </a:xfrm>
          <a:prstGeom prst="rect">
            <a:avLst/>
          </a:prstGeom>
          <a:ln w="0">
            <a:noFill/>
          </a:ln>
        </p:spPr>
      </p:pic>
      <p:pic>
        <p:nvPicPr>
          <p:cNvPr id="1110" name="图片 4" descr=""/>
          <p:cNvPicPr/>
          <p:nvPr/>
        </p:nvPicPr>
        <p:blipFill>
          <a:blip r:embed="rId4"/>
          <a:stretch/>
        </p:blipFill>
        <p:spPr>
          <a:xfrm>
            <a:off x="66600" y="5116680"/>
            <a:ext cx="9010800" cy="111420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395280" y="134136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395280" y="220500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7"/>
          <a:stretch/>
        </p:blipFill>
        <p:spPr>
          <a:xfrm>
            <a:off x="468360" y="342900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8"/>
          <a:stretch/>
        </p:blipFill>
        <p:spPr>
          <a:xfrm>
            <a:off x="395280" y="427356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9"/>
          <a:stretch/>
        </p:blipFill>
        <p:spPr>
          <a:xfrm>
            <a:off x="324000" y="5084640"/>
            <a:ext cx="36036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1" descr=""/>
          <p:cNvPicPr/>
          <p:nvPr/>
        </p:nvPicPr>
        <p:blipFill>
          <a:blip r:embed="rId1"/>
          <a:stretch/>
        </p:blipFill>
        <p:spPr>
          <a:xfrm>
            <a:off x="90360" y="1695600"/>
            <a:ext cx="8961480" cy="346680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360360" cy="29340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3"/>
          <a:stretch/>
        </p:blipFill>
        <p:spPr>
          <a:xfrm>
            <a:off x="324000" y="270828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4"/>
          <a:stretch/>
        </p:blipFill>
        <p:spPr>
          <a:xfrm>
            <a:off x="324000" y="3357720"/>
            <a:ext cx="360360" cy="29340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5"/>
          <a:stretch/>
        </p:blipFill>
        <p:spPr>
          <a:xfrm>
            <a:off x="324000" y="393372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6"/>
          <a:stretch/>
        </p:blipFill>
        <p:spPr>
          <a:xfrm>
            <a:off x="324000" y="453708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7"/>
          <a:stretch/>
        </p:blipFill>
        <p:spPr>
          <a:xfrm>
            <a:off x="8172360" y="2073240"/>
            <a:ext cx="720720" cy="29376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8"/>
          <a:stretch/>
        </p:blipFill>
        <p:spPr>
          <a:xfrm>
            <a:off x="8028000" y="2695680"/>
            <a:ext cx="865080" cy="29376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9"/>
          <a:stretch/>
        </p:blipFill>
        <p:spPr>
          <a:xfrm>
            <a:off x="7956720" y="3322800"/>
            <a:ext cx="865080" cy="29340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10"/>
          <a:stretch/>
        </p:blipFill>
        <p:spPr>
          <a:xfrm>
            <a:off x="8028000" y="3933720"/>
            <a:ext cx="865080" cy="29376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11"/>
          <a:stretch/>
        </p:blipFill>
        <p:spPr>
          <a:xfrm>
            <a:off x="8126280" y="4546440"/>
            <a:ext cx="86544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600120" y="1762200"/>
            <a:ext cx="7943760" cy="333360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2"/>
          <a:stretch/>
        </p:blipFill>
        <p:spPr>
          <a:xfrm>
            <a:off x="3132000" y="3097080"/>
            <a:ext cx="1079640" cy="29376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3"/>
          <a:stretch/>
        </p:blipFill>
        <p:spPr>
          <a:xfrm>
            <a:off x="5364000" y="3490920"/>
            <a:ext cx="792360" cy="2937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4"/>
          <a:stretch/>
        </p:blipFill>
        <p:spPr>
          <a:xfrm>
            <a:off x="6227640" y="3905280"/>
            <a:ext cx="792360" cy="29376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5"/>
          <a:stretch/>
        </p:blipFill>
        <p:spPr>
          <a:xfrm>
            <a:off x="2340000" y="4292640"/>
            <a:ext cx="1152360" cy="29376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6"/>
          <a:stretch/>
        </p:blipFill>
        <p:spPr>
          <a:xfrm>
            <a:off x="3203640" y="4705200"/>
            <a:ext cx="115236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图片 1" descr=""/>
          <p:cNvPicPr/>
          <p:nvPr/>
        </p:nvPicPr>
        <p:blipFill>
          <a:blip r:embed="rId1"/>
          <a:stretch/>
        </p:blipFill>
        <p:spPr>
          <a:xfrm>
            <a:off x="457200" y="1014480"/>
            <a:ext cx="8229600" cy="482904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2"/>
          <a:stretch/>
        </p:blipFill>
        <p:spPr>
          <a:xfrm>
            <a:off x="1332000" y="1792440"/>
            <a:ext cx="2376360" cy="2934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3"/>
          <a:stretch/>
        </p:blipFill>
        <p:spPr>
          <a:xfrm>
            <a:off x="2195640" y="2598840"/>
            <a:ext cx="1008000" cy="29376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4"/>
          <a:stretch/>
        </p:blipFill>
        <p:spPr>
          <a:xfrm>
            <a:off x="3851280" y="2612880"/>
            <a:ext cx="1008000" cy="2937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5"/>
          <a:stretch/>
        </p:blipFill>
        <p:spPr>
          <a:xfrm>
            <a:off x="2771640" y="3419640"/>
            <a:ext cx="863640" cy="29340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6"/>
          <a:stretch/>
        </p:blipFill>
        <p:spPr>
          <a:xfrm>
            <a:off x="5364000" y="3405240"/>
            <a:ext cx="1152720" cy="29376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7"/>
          <a:stretch/>
        </p:blipFill>
        <p:spPr>
          <a:xfrm>
            <a:off x="2700360" y="4221000"/>
            <a:ext cx="3527280" cy="29376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8"/>
          <a:stretch/>
        </p:blipFill>
        <p:spPr>
          <a:xfrm>
            <a:off x="1403280" y="5425920"/>
            <a:ext cx="223200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16:53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